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AE4D-92A4-47DE-887E-34BDD4C0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69EA-DACC-4095-B79E-F74E4148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B07E-8019-48DA-BAB1-0787DADF3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2AB-5C4E-4572-96CD-DC6FE75FF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CD7-0778-49B9-BF72-7DAF84E7D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F324-35C0-4676-BB9D-2B5ACCE6F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EE75-A5BE-48C2-9FDE-067C9360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15C0-A131-424A-8F40-AAE56780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230E-5261-4A5F-A405-5509D16F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CF9E-B526-464D-B9C3-57A25CB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3C74-2595-4EDA-94EB-15AD626C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710-3BC1-48AB-BADD-48DAB65B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E095-B109-4A65-B48B-1516D6FF2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imple Sent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ick les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sentences must have three thing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complete id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ubje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s out the action or state of the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ver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Margi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lik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ce cre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a complete idea, you leave someon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han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ver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sa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movie. (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?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mple sent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one independent cla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Word 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sentence order goes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bje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ver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dditional in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information can tell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my si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st n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at the mov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with a man who isn’t her husb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ecause her divorce was just finaliz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ord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dditional information can be placed in front of the subject, and when it is, it’s usually offset by a com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Last night,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sa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sister at the movi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Because her divorce is finalized,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my sis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w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the movies last night with a man who isn’t her husb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Unfortunately, </a:t>
            </a:r>
            <a:r>
              <a:rPr b="0" lang="en-US" sz="3200" spc="-1" strike="noStrike">
                <a:solidFill>
                  <a:srgbClr val="6600cc"/>
                </a:solidFill>
                <a:latin typeface="Arial"/>
              </a:rPr>
              <a:t>she </a:t>
            </a: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ha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ad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ubject and verb. Also, identify what type of additional information is inclu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to get ready quickly in the morning, I wash my hair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parents went to Paris and saw the Mona Lisa last sum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ep in the pocket of the couch, my cat digs for her favorite to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going to the dentist, the patient has taken some anti-anxiety med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positional Phr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ositions are generally small words lik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, on, at, with, for, of, 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ppear at the beginning of noun phrases (the dog, an umbrella, the desk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not include the subject of the sentence (but they can stand in between the subject and the ver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give additional infor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gir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 that basketball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rappy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f my neighb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ca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la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the three small dogs </a:t>
            </a: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work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my m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Practi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subject and the verb. Also identify prepositional phrases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house in the canyon between those two mountains never gets any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irls from New York at the club last night refused to dance with any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ts around my house cause serious allergy problems for me in the sp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you see the mailman on that motor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23:07:43Z</dcterms:created>
  <dc:creator>SCE ESL PROGRAM</dc:creator>
  <dc:description/>
  <dc:language>en-US</dc:language>
  <cp:lastModifiedBy>SCE ESL PROGRAM</cp:lastModifiedBy>
  <dcterms:modified xsi:type="dcterms:W3CDTF">2012-03-14T22:59:12Z</dcterms:modified>
  <cp:revision>11</cp:revision>
  <dc:subject/>
  <dc:title>The Simple Sentence</dc:title>
</cp:coreProperties>
</file>